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853-6F1D-4F62-9FC1-23FE1F40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1F4-9C9E-4E1B-A2D6-F9F2C1B7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193-05AB-49A9-ADFA-923ACF27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E47-17C0-424F-A273-A6D33E1D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D06-9902-43AB-BEFB-73296FB5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79E-EDB2-489B-A9C5-FC343880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C8C-FA63-48F3-8B36-3B1C62FB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86E-5F02-4D9E-A799-67BFB882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AC8-1014-4994-B837-CB303219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A22-A4C4-457A-A6F4-AA64E121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E1B-9B2A-445E-AA4C-317C494D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4B4-3051-4EAF-B4F1-B84828BF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DEDFA-DDC7-4643-B144-3688C63B1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2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grpSp>
          <p:nvGrpSpPr>
            <p:cNvPr id="42" name="Group 4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43" name="Group 40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44" name="Group 25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45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46" name="Straight Arrow Connector 4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47" name="Straight Arrow Connector 5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48" name="Straight Connector 8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9" name="Straight Connector 11"/>
                    <p:cNvSpPr/>
                    <p:nvPr/>
                  </p:nvSpPr>
                  <p:spPr>
                    <a:xfrm>
                      <a:off x="2177280" y="2910600"/>
                      <a:ext cx="4243680" cy="2494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0" name="Straight Connector 12"/>
                    <p:cNvSpPr/>
                    <p:nvPr/>
                  </p:nvSpPr>
                  <p:spPr>
                    <a:xfrm>
                      <a:off x="2175840" y="4686480"/>
                      <a:ext cx="4525200" cy="71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1" name="Straight Connector 13"/>
                    <p:cNvSpPr/>
                    <p:nvPr/>
                  </p:nvSpPr>
                  <p:spPr>
                    <a:xfrm>
                      <a:off x="2175840" y="4105800"/>
                      <a:ext cx="2610360" cy="1313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2" name="TextBox 23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53" name="TextBox 2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54" name="TextBox 26"/>
                <p:cNvSpPr/>
                <p:nvPr/>
              </p:nvSpPr>
              <p:spPr>
                <a:xfrm>
                  <a:off x="2370960" y="1847880"/>
                  <a:ext cx="7898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Driver A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" name="TextBox 37"/>
              <p:cNvSpPr/>
              <p:nvPr/>
            </p:nvSpPr>
            <p:spPr>
              <a:xfrm>
                <a:off x="3792960" y="3566880"/>
                <a:ext cx="789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Driver B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" name="TextBox 38"/>
            <p:cNvSpPr/>
            <p:nvPr/>
          </p:nvSpPr>
          <p:spPr>
            <a:xfrm>
              <a:off x="2421720" y="402984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9"/>
            <p:cNvSpPr/>
            <p:nvPr/>
          </p:nvSpPr>
          <p:spPr>
            <a:xfrm>
              <a:off x="2432880" y="484632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TextBox 43"/>
          <p:cNvSpPr/>
          <p:nvPr/>
        </p:nvSpPr>
        <p:spPr>
          <a:xfrm>
            <a:off x="2624040" y="536400"/>
            <a:ext cx="48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an you Determine from this Grap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you Determ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Questions Do You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Do You Want to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2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sp>
          <p:nvSpPr>
            <p:cNvPr id="62" name="Oval 13"/>
            <p:cNvSpPr/>
            <p:nvPr/>
          </p:nvSpPr>
          <p:spPr>
            <a:xfrm>
              <a:off x="2074320" y="1706760"/>
              <a:ext cx="153000" cy="15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3637800" y="4145400"/>
              <a:ext cx="153000" cy="15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Group 2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65" name="Group 19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66" name="Group 3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67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68" name="Straight Arrow Connector 7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69" name="Straight Arrow Connector 8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0" name="Straight Connector 9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1" name="TextBox 5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72" name="TextBox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3" name="TextBox 15"/>
                <p:cNvSpPr/>
                <p:nvPr/>
              </p:nvSpPr>
              <p:spPr>
                <a:xfrm>
                  <a:off x="2249280" y="1523160"/>
                  <a:ext cx="72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(0,42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TextBox 18"/>
                <p:cNvSpPr/>
                <p:nvPr/>
              </p:nvSpPr>
              <p:spPr>
                <a:xfrm>
                  <a:off x="3769920" y="3931560"/>
                  <a:ext cx="72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(4,12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5" name="TextBox 20"/>
              <p:cNvSpPr/>
              <p:nvPr/>
            </p:nvSpPr>
            <p:spPr>
              <a:xfrm>
                <a:off x="2737800" y="2525400"/>
                <a:ext cx="125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Driver 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6" name="TextBox 23"/>
          <p:cNvSpPr/>
          <p:nvPr/>
        </p:nvSpPr>
        <p:spPr>
          <a:xfrm>
            <a:off x="1947960" y="479520"/>
            <a:ext cx="42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an you determine given this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ordered pairs to the graph that make sense to you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grpSp>
          <p:nvGrpSpPr>
            <p:cNvPr id="79" name="Group 4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80" name="Group 40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81" name="Group 25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82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83" name="Straight Arrow Connector 14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84" name="Straight Arrow Connector 5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85" name="Straight Connector 16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6" name="Straight Connector 17"/>
                    <p:cNvSpPr/>
                    <p:nvPr/>
                  </p:nvSpPr>
                  <p:spPr>
                    <a:xfrm>
                      <a:off x="2177280" y="2910600"/>
                      <a:ext cx="4243680" cy="2494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7" name="Straight Connector 18"/>
                    <p:cNvSpPr/>
                    <p:nvPr/>
                  </p:nvSpPr>
                  <p:spPr>
                    <a:xfrm>
                      <a:off x="2175840" y="4686480"/>
                      <a:ext cx="4525200" cy="71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" name="Straight Connector 19"/>
                    <p:cNvSpPr/>
                    <p:nvPr/>
                  </p:nvSpPr>
                  <p:spPr>
                    <a:xfrm>
                      <a:off x="2175840" y="4105800"/>
                      <a:ext cx="2610360" cy="1313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9" name="TextBox 12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90" name="TextBox 1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91" name="TextBox 10"/>
                <p:cNvSpPr/>
                <p:nvPr/>
              </p:nvSpPr>
              <p:spPr>
                <a:xfrm>
                  <a:off x="2370960" y="1847880"/>
                  <a:ext cx="7898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Driver A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Box 8"/>
              <p:cNvSpPr/>
              <p:nvPr/>
            </p:nvSpPr>
            <p:spPr>
              <a:xfrm>
                <a:off x="3792960" y="3566880"/>
                <a:ext cx="789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Driver B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Box 5"/>
            <p:cNvSpPr/>
            <p:nvPr/>
          </p:nvSpPr>
          <p:spPr>
            <a:xfrm>
              <a:off x="2421720" y="402984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2432880" y="484632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ize What you K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 on Your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did you start in your think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did you get stuc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id you get unstuc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re some general ideas about graphs do you think you understand now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 you know you understand those ide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you learn any knew math skills while thinking about this problem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 Your Learning- What was Your Pa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1397160"/>
          <a:ext cx="6319800" cy="3768480"/>
        </p:xfrm>
        <a:graphic>
          <a:graphicData uri="http://schemas.openxmlformats.org/drawingml/2006/table">
            <a:tbl>
              <a:tblPr/>
              <a:tblGrid>
                <a:gridCol w="1263600"/>
                <a:gridCol w="1263960"/>
                <a:gridCol w="1265040"/>
                <a:gridCol w="1263600"/>
                <a:gridCol w="126360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4"/>
          <p:cNvSpPr/>
          <p:nvPr/>
        </p:nvSpPr>
        <p:spPr>
          <a:xfrm>
            <a:off x="4067280" y="5173560"/>
            <a:ext cx="411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ol in Development – C.S. Walker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17:55:16Z</dcterms:created>
  <dc:creator>Carren  Walker</dc:creator>
  <dc:description/>
  <dc:language>en-US</dc:language>
  <cp:lastModifiedBy>Carren  Walker</cp:lastModifiedBy>
  <dcterms:modified xsi:type="dcterms:W3CDTF">2011-07-23T19:29:05Z</dcterms:modified>
  <cp:revision>2</cp:revision>
  <dc:subject/>
  <dc:title>Slide 1</dc:title>
</cp:coreProperties>
</file>